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5213-637C-4AE9-8118-904C9037A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C5C8-5A12-42DE-98C3-EF9F0757F0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09D-C92E-4DD1-9146-96CDF249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8A1-A8CA-47E9-A116-9E997F41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398-0E8C-4217-8FD3-293C88AF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3A9-FE24-46B6-9C81-8A1A73E0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783-9828-4B1D-8696-3FEEA18A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A94-0D3B-4BC8-9D9B-FF0E8BD4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7E88-D883-4F88-8612-7EEA37F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47F-F343-4934-9D9A-E36C782D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B57-F414-48D2-81B7-B6BA795F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726-AEED-48DE-A9E3-0B438C6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20B-93C8-4C20-AB85-79AD6FC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04B-B23A-4FE4-842D-6609445B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E25B-D9E0-46D3-A128-8503C29BEE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nit_Plan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1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69" name="MSSN00435A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Jester"/>
                <a:hlinkClick r:id="rId1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1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880" y="3124080"/>
            <a:ext cx="7391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 </cp:lastModifiedBy>
  <dcterms:modified xsi:type="dcterms:W3CDTF">2009-05-21T19:11:36Z</dcterms:modified>
  <cp:revision>25</cp:revision>
  <dc:subject/>
  <dc:title>What Goes Up Must Come Down</dc:title>
</cp:coreProperties>
</file>